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ct" ContentType="image/x-pict"/>
  <Override PartName="/ppt/media/image6.pct" ContentType="image/x-pict"/>
  <Override PartName="/ppt/media/image7.jpeg" ContentType="image/jpe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04CC3-2300-4236-8186-E1A043AA28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box = single EAV set.  Without reading the words, you can see a pattern emerge; shh has some but not all phenotypic characteristics of holoprosencephaly, oep is better match.  This type of analysis can be done on a large scale computational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767D3-41C8-4678-AB58-8CD11F7ECF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215FD-4A7E-4BE3-878F-A1458B2D85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CBDDA-37F5-43C0-BF35-39B90401D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B140B-D44D-4DC7-A087-C10ED5A41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70167-92CD-4134-964E-E7658F3EF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443D6-6410-4ACD-B273-35A46B830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4849C-0AD4-4454-ACDB-BABFC9940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7C492-1BB2-4A15-BA32-E3D57A50A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CDA68-54BA-415E-91AE-4364E779E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4AC76-D7FC-4A63-B8F8-C28727B95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5CC71-A08B-4E40-B25A-601F0A0F6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6443E-712F-48DD-B6FA-5D46BED34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DFE4D-C41A-4887-B4CB-EE89BD8AD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21A25-5CC5-4E99-8E05-E2572A229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4160" indent="-20340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30960" indent="-2034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8F02B-D92F-4DCE-A95B-398E255B0B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ct"/><Relationship Id="rId5" Type="http://schemas.openxmlformats.org/officeDocument/2006/relationships/image" Target="../media/image5.png"/><Relationship Id="rId6" Type="http://schemas.openxmlformats.org/officeDocument/2006/relationships/image" Target="../media/image6.pct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ct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ct"/><Relationship Id="rId5" Type="http://schemas.openxmlformats.org/officeDocument/2006/relationships/image" Target="../media/image5.png"/><Relationship Id="rId6" Type="http://schemas.openxmlformats.org/officeDocument/2006/relationships/image" Target="../media/image6.pct"/><Relationship Id="rId7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752480" y="4019400"/>
            <a:ext cx="2057400" cy="10843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334120" y="4019400"/>
            <a:ext cx="2133360" cy="10861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533520" y="857160"/>
            <a:ext cx="2554200" cy="895320"/>
          </a:xfrm>
          <a:prstGeom prst="rect">
            <a:avLst/>
          </a:prstGeom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51" name=""/>
          <p:cNvSpPr/>
          <p:nvPr/>
        </p:nvSpPr>
        <p:spPr>
          <a:xfrm>
            <a:off x="609480" y="2162160"/>
            <a:ext cx="7848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Linking Animal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Models to Human Dise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3962520" y="4019400"/>
            <a:ext cx="1218960" cy="10702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53" name=""/>
          <p:cNvSpPr/>
          <p:nvPr/>
        </p:nvSpPr>
        <p:spPr>
          <a:xfrm>
            <a:off x="609480" y="5410080"/>
            <a:ext cx="7925040" cy="7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upported by NIH P41 HG002659 and U54 HG00402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University of Oregon, Eugene, 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6334200" y="961920"/>
            <a:ext cx="1819080" cy="685800"/>
            <a:chOff x="6334200" y="961920"/>
            <a:chExt cx="1819080" cy="685800"/>
          </a:xfrm>
        </p:grpSpPr>
        <p:sp>
          <p:nvSpPr>
            <p:cNvPr id="55" name=""/>
            <p:cNvSpPr/>
            <p:nvPr/>
          </p:nvSpPr>
          <p:spPr>
            <a:xfrm>
              <a:off x="6334200" y="961920"/>
              <a:ext cx="175248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6" name="" descr=""/>
            <p:cNvPicPr/>
            <p:nvPr/>
          </p:nvPicPr>
          <p:blipFill>
            <a:blip r:embed="rId5"/>
            <a:stretch/>
          </p:blipFill>
          <p:spPr>
            <a:xfrm>
              <a:off x="6334200" y="1022400"/>
              <a:ext cx="1819080" cy="56340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</p:pic>
      </p:grpSp>
      <p:pic>
        <p:nvPicPr>
          <p:cNvPr id="57" name="" descr=""/>
          <p:cNvPicPr/>
          <p:nvPr/>
        </p:nvPicPr>
        <p:blipFill>
          <a:blip r:embed="rId6"/>
          <a:stretch/>
        </p:blipFill>
        <p:spPr>
          <a:xfrm>
            <a:off x="3886200" y="380880"/>
            <a:ext cx="1295280" cy="9399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2516400" y="1496880"/>
            <a:ext cx="68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ey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231080" y="1496880"/>
            <a:ext cx="168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lac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604200" y="1496880"/>
            <a:ext cx="182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hypotelor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90920" y="1523880"/>
            <a:ext cx="6019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172200" y="2446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24280" y="14968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256080" y="14968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515680" y="90324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ＭＳ Ｐゴシック"/>
              </a:rPr>
              <a:t>ent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4560" y="903240"/>
            <a:ext cx="95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ＭＳ Ｐゴシック"/>
              </a:rPr>
              <a:t>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230000" y="903240"/>
            <a:ext cx="140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ＭＳ Ｐゴシック"/>
              </a:rPr>
              <a:t>attrib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30400" y="90324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232320" y="90324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38280" y="152388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516400" y="1981080"/>
            <a:ext cx="13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midf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231080" y="1981080"/>
            <a:ext cx="20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develo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604560" y="1981080"/>
            <a:ext cx="187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hypoplas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438280" y="198108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822480" y="1981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256080" y="196992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516400" y="2438280"/>
            <a:ext cx="114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kidn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231080" y="243828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i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604560" y="2438280"/>
            <a:ext cx="222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hypertrophi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436840" y="243828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825720" y="24382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323040" y="2438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257880" y="240336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28600" y="538200"/>
            <a:ext cx="2154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heno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  <a:ea typeface="ＭＳ Ｐゴシック"/>
              </a:rPr>
              <a:t>clinical sig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)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80280" y="1496880"/>
            <a:ext cx="1428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80280" y="1981080"/>
            <a:ext cx="1428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980280" y="2438280"/>
            <a:ext cx="1428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219320" y="3379680"/>
            <a:ext cx="594360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7640"/>
                <a:tab algn="l" pos="188604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yndrome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=  P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  <a:ea typeface="ＭＳ Ｐゴシック"/>
              </a:rPr>
              <a:t>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 +  P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  <a:ea typeface="ＭＳ Ｐゴシック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 +  P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  <a:ea typeface="ＭＳ Ｐゴシック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7640"/>
                <a:tab algn="l" pos="188604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disea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7640"/>
                <a:tab algn="l" pos="188604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    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=  holoprosencepha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803880" y="184320"/>
            <a:ext cx="2689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Human holo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rosencepha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759120" y="168120"/>
            <a:ext cx="1780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Zebrafi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hh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197760" y="184320"/>
            <a:ext cx="1780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Zebrafi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ep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8839080" y="1676520"/>
            <a:ext cx="0" cy="4800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763120" y="1600200"/>
            <a:ext cx="0" cy="4724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685800" y="1143000"/>
            <a:ext cx="762012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295280" y="837720"/>
            <a:ext cx="73915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Goa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nnotate mutant phenotyp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dentify human disease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trateg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rogre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3048120" y="685800"/>
            <a:ext cx="3429000" cy="33526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752480" y="2590920"/>
            <a:ext cx="3429000" cy="33526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419720" y="2590920"/>
            <a:ext cx="3429000" cy="33526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040280" y="1622520"/>
            <a:ext cx="120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MI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704320" y="3755880"/>
            <a:ext cx="13647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ZF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ut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441760" y="3755880"/>
            <a:ext cx="15447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ly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ut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3" name=""/>
          <p:cNvGraphicFramePr/>
          <p:nvPr/>
        </p:nvGraphicFramePr>
        <p:xfrm>
          <a:off x="380880" y="1397160"/>
          <a:ext cx="8382240" cy="4130640"/>
        </p:xfrm>
        <a:graphic>
          <a:graphicData uri="http://schemas.openxmlformats.org/drawingml/2006/table">
            <a:tbl>
              <a:tblPr/>
              <a:tblGrid>
                <a:gridCol w="6793200"/>
                <a:gridCol w="1589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</a:t>
                      </a:r>
                      <a:r>
                        <a:rPr b="1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Data typ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Tot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tal ZFIN gen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,38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enes with assigned human ortholog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88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enes with OMIM link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17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tal ZFIN mutan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,18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FIN mutants with OMIM link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rresponding human gen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rosophila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homologs of these 27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52280" y="1066680"/>
            <a:ext cx="8839440" cy="495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228600" y="1143000"/>
          <a:ext cx="8686800" cy="4699080"/>
        </p:xfrm>
        <a:graphic>
          <a:graphicData uri="http://schemas.openxmlformats.org/drawingml/2006/table">
            <a:tbl>
              <a:tblPr/>
              <a:tblGrid>
                <a:gridCol w="914400"/>
                <a:gridCol w="762120"/>
                <a:gridCol w="914400"/>
                <a:gridCol w="934920"/>
                <a:gridCol w="893880"/>
                <a:gridCol w="761760"/>
                <a:gridCol w="457200"/>
                <a:gridCol w="609840"/>
                <a:gridCol w="2438280"/>
              </a:tblGrid>
              <a:tr h="570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MIM ge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FIN ge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lyBase ge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lyBase  mut pu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FIN mut pu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u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nom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MIM diseas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MB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mb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nB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C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c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rro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elata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toporphyria, Erythropoieti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LI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li2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LC4A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lc4a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G817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nal Tubular Acidosis, RTAD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YO7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yo7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afness; DFNB2; DFNA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AS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as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emia, Sideroblastic, X-Link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CNH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cnh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YH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yh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h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diomyopathy, Familial Hypertrophic; CM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P5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p5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5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east Canc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P2A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p2a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-P60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ody Myopath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YA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ya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y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anchiootorenal Dysplas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X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x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x100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ardenburg-Shah Syndro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-121320" y="474840"/>
            <a:ext cx="9259560" cy="68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TO development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underway)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457200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457200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457200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457200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457200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457200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urator interface development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underwa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ial curation of ZFIN &amp; FlyBas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457200">
              <a:lnSpc>
                <a:spcPct val="9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ublications + OMI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(futur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457200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-121320" y="474840"/>
            <a:ext cx="9259560" cy="67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TO development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underway)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457200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natomical Ontology clean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457200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457200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TO clean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457200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457200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457200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urator interface development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underwa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ial curation of ZFIN &amp; FlyBas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457200">
              <a:lnSpc>
                <a:spcPct val="9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ublications + OMI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(futur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457200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olving AO differences between ZFIN and Fly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1371600" y="1828800"/>
            <a:ext cx="7315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231840"/>
                <a:tab algn="l" pos="50976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ZFI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231840"/>
                <a:tab algn="l" pos="50976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231840"/>
                <a:tab algn="l" pos="50976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rt_stage      (where stages are stor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231840"/>
                <a:tab algn="l" pos="50976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d_stage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in separate ontolog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231840"/>
                <a:tab algn="l" pos="50976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231840"/>
                <a:tab algn="l" pos="50976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lyBas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231840"/>
                <a:tab algn="l" pos="50976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ge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ge 2 …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231840"/>
                <a:tab algn="l" pos="50976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t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part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231840"/>
                <a:tab algn="l" pos="50976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t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part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754640" y="1886040"/>
            <a:ext cx="85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ey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469320" y="1886040"/>
            <a:ext cx="218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lac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237720" y="188604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hypotelor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821320" y="1886040"/>
            <a:ext cx="41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751720" y="1905120"/>
            <a:ext cx="41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781640" y="3973680"/>
            <a:ext cx="85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ey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494520" y="399240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hypotelor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856240" y="3992400"/>
            <a:ext cx="41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1640" y="1143000"/>
            <a:ext cx="13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  <a:ea typeface="ＭＳ Ｐゴシック"/>
              </a:rPr>
              <a:t>Ent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659040" y="1143000"/>
            <a:ext cx="1875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  <a:ea typeface="ＭＳ Ｐゴシック"/>
              </a:rPr>
              <a:t>Attrib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631200" y="1143000"/>
            <a:ext cx="126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  <a:ea typeface="ＭＳ Ｐゴシック"/>
              </a:rPr>
              <a:t>Val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28640" y="3306600"/>
            <a:ext cx="13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  <a:ea typeface="ＭＳ Ｐゴシック"/>
              </a:rPr>
              <a:t>Ent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762000" y="3306600"/>
            <a:ext cx="1875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  <a:ea typeface="ＭＳ Ｐゴシック"/>
              </a:rPr>
              <a:t>Attrib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1143000"/>
            <a:ext cx="15228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6553080"/>
            <a:ext cx="815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2182680"/>
            <a:ext cx="3124080" cy="28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ZFI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lissa Haen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oug How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rik Segerde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erra Tayl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029200" y="2182680"/>
            <a:ext cx="373392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lyBas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icael Ashbur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achel Drysda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orge Gkou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533520" y="857160"/>
            <a:ext cx="2554200" cy="895320"/>
          </a:xfrm>
          <a:prstGeom prst="rect">
            <a:avLst/>
          </a:prstGeom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3886200" y="380880"/>
            <a:ext cx="1295280" cy="9399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grpSp>
        <p:nvGrpSpPr>
          <p:cNvPr id="64" name=""/>
          <p:cNvGrpSpPr/>
          <p:nvPr/>
        </p:nvGrpSpPr>
        <p:grpSpPr>
          <a:xfrm>
            <a:off x="6334200" y="961920"/>
            <a:ext cx="1819080" cy="685800"/>
            <a:chOff x="6334200" y="961920"/>
            <a:chExt cx="1819080" cy="685800"/>
          </a:xfrm>
        </p:grpSpPr>
        <p:sp>
          <p:nvSpPr>
            <p:cNvPr id="65" name=""/>
            <p:cNvSpPr/>
            <p:nvPr/>
          </p:nvSpPr>
          <p:spPr>
            <a:xfrm>
              <a:off x="6334200" y="961920"/>
              <a:ext cx="175248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6" name="" descr=""/>
            <p:cNvPicPr/>
            <p:nvPr/>
          </p:nvPicPr>
          <p:blipFill>
            <a:blip r:embed="rId3"/>
            <a:stretch/>
          </p:blipFill>
          <p:spPr>
            <a:xfrm>
              <a:off x="6334200" y="1022400"/>
              <a:ext cx="1819080" cy="56340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</p:pic>
      </p:grp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1676520" y="1828800"/>
            <a:ext cx="3047760" cy="3276720"/>
          </a:xfrm>
          <a:prstGeom prst="ellipse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209680" y="1752480"/>
            <a:ext cx="1905120" cy="60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2209680" y="2133360"/>
            <a:ext cx="152640" cy="7596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209680" y="4572000"/>
            <a:ext cx="2133720" cy="609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>
            <a:off x="4267080" y="4419720"/>
            <a:ext cx="152640" cy="2286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685800" y="129528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A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ura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402600" y="2743200"/>
            <a:ext cx="1896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r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u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952880" y="3352680"/>
            <a:ext cx="1447920" cy="0"/>
          </a:xfrm>
          <a:prstGeom prst="line">
            <a:avLst/>
          </a:prstGeom>
          <a:ln w="7632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1676520" y="1828800"/>
            <a:ext cx="3047760" cy="3276720"/>
          </a:xfrm>
          <a:prstGeom prst="ellipse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209680" y="1752480"/>
            <a:ext cx="1905120" cy="60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209680" y="2133360"/>
            <a:ext cx="152640" cy="7596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209680" y="4572000"/>
            <a:ext cx="2133720" cy="609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267080" y="4419720"/>
            <a:ext cx="152640" cy="2286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685800" y="129528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A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ura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402600" y="2743200"/>
            <a:ext cx="1896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r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u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952880" y="3352680"/>
            <a:ext cx="1447920" cy="0"/>
          </a:xfrm>
          <a:prstGeom prst="line">
            <a:avLst/>
          </a:prstGeom>
          <a:ln w="7632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343400" y="5105520"/>
            <a:ext cx="1447920" cy="0"/>
          </a:xfrm>
          <a:prstGeom prst="line">
            <a:avLst/>
          </a:prstGeom>
          <a:ln w="7632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098040" y="4648320"/>
            <a:ext cx="1986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s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-473040" y="474840"/>
            <a:ext cx="9963360" cy="662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TO development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underway)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457200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natomical Ontology clean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457200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457200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TO clean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457200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457200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itial curation of fish phenotypes 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457200">
              <a:lnSpc>
                <a:spcPct val="9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ortable database for research lab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457200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457200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ToL - taxonomy &amp; phylogen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457200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urator interface development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underwa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ial curation of ZFIN &amp; FlyBas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457200">
              <a:lnSpc>
                <a:spcPct val="9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ublications + OMI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(futur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457200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1295280" y="837720"/>
            <a:ext cx="73915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Goa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nnotate mutant phenotyp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dentify human disease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trateg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rogre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1752480" y="4019400"/>
            <a:ext cx="2057400" cy="10843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234" name="" descr=""/>
          <p:cNvPicPr/>
          <p:nvPr/>
        </p:nvPicPr>
        <p:blipFill>
          <a:blip r:embed="rId2"/>
          <a:stretch/>
        </p:blipFill>
        <p:spPr>
          <a:xfrm>
            <a:off x="5334120" y="4019400"/>
            <a:ext cx="2133360" cy="10861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235" name="" descr=""/>
          <p:cNvPicPr/>
          <p:nvPr/>
        </p:nvPicPr>
        <p:blipFill>
          <a:blip r:embed="rId3"/>
          <a:stretch/>
        </p:blipFill>
        <p:spPr>
          <a:xfrm>
            <a:off x="533520" y="857160"/>
            <a:ext cx="2554200" cy="895320"/>
          </a:xfrm>
          <a:prstGeom prst="rect">
            <a:avLst/>
          </a:prstGeom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236" name="" descr=""/>
          <p:cNvPicPr/>
          <p:nvPr/>
        </p:nvPicPr>
        <p:blipFill>
          <a:blip r:embed="rId4"/>
          <a:stretch/>
        </p:blipFill>
        <p:spPr>
          <a:xfrm>
            <a:off x="3962520" y="4019400"/>
            <a:ext cx="1218960" cy="10702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237" name=""/>
          <p:cNvSpPr/>
          <p:nvPr/>
        </p:nvSpPr>
        <p:spPr>
          <a:xfrm>
            <a:off x="609480" y="5410080"/>
            <a:ext cx="7925040" cy="67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upported by NIH P41 HG002659 and U54 HG00402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e University of Oregon, Eugene,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6334200" y="961920"/>
            <a:ext cx="1819080" cy="685800"/>
            <a:chOff x="6334200" y="961920"/>
            <a:chExt cx="1819080" cy="685800"/>
          </a:xfrm>
        </p:grpSpPr>
        <p:sp>
          <p:nvSpPr>
            <p:cNvPr id="239" name=""/>
            <p:cNvSpPr/>
            <p:nvPr/>
          </p:nvSpPr>
          <p:spPr>
            <a:xfrm>
              <a:off x="6334200" y="961920"/>
              <a:ext cx="175248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40" name="" descr=""/>
            <p:cNvPicPr/>
            <p:nvPr/>
          </p:nvPicPr>
          <p:blipFill>
            <a:blip r:embed="rId5"/>
            <a:stretch/>
          </p:blipFill>
          <p:spPr>
            <a:xfrm>
              <a:off x="6334200" y="1022400"/>
              <a:ext cx="1819080" cy="56340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</p:pic>
      </p:grpSp>
      <p:pic>
        <p:nvPicPr>
          <p:cNvPr id="241" name="" descr=""/>
          <p:cNvPicPr/>
          <p:nvPr/>
        </p:nvPicPr>
        <p:blipFill>
          <a:blip r:embed="rId6"/>
          <a:stretch/>
        </p:blipFill>
        <p:spPr>
          <a:xfrm>
            <a:off x="3886200" y="380880"/>
            <a:ext cx="1295280" cy="9399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295280" y="837720"/>
            <a:ext cx="73915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Goa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nnotate mutant phenotyp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dentify human disease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trateg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rogre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1687320" y="1741320"/>
            <a:ext cx="13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Hum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521320" y="1741320"/>
            <a:ext cx="234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nimal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160" y="2285640"/>
            <a:ext cx="3733560" cy="4343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utant Gene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Mutant  or missing Protein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utant Phenotype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diseas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362320" y="2971800"/>
            <a:ext cx="0" cy="5335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362320" y="4724280"/>
            <a:ext cx="0" cy="5335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800600" y="2286000"/>
            <a:ext cx="3733920" cy="4343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utant Gene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Mutant  or missing Protein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utant Phenotype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disease mode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629400" y="2971800"/>
            <a:ext cx="0" cy="5335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629400" y="4724280"/>
            <a:ext cx="0" cy="5335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52280" y="8380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3716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nimal disease model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457200" y="380880"/>
            <a:ext cx="1295280" cy="9399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687320" y="1741320"/>
            <a:ext cx="13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Hum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521320" y="1741320"/>
            <a:ext cx="234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nimal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3160" y="2285640"/>
            <a:ext cx="3733560" cy="4343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utant Gene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Mutant  or missing Protein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utant Phenotype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diseas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800600" y="2286000"/>
            <a:ext cx="3733920" cy="4343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utant Gene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Mutant  or missing Protein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utant Phenotype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disease mode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52280" y="8380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362320" y="2971800"/>
            <a:ext cx="0" cy="5335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62320" y="4724280"/>
            <a:ext cx="0" cy="5335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629400" y="2971800"/>
            <a:ext cx="0" cy="5335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629400" y="4724280"/>
            <a:ext cx="0" cy="5335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3716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nimal disease model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962520" y="2743200"/>
            <a:ext cx="1143000" cy="0"/>
          </a:xfrm>
          <a:prstGeom prst="line">
            <a:avLst/>
          </a:prstGeom>
          <a:ln w="5724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962520" y="4038480"/>
            <a:ext cx="1143000" cy="0"/>
          </a:xfrm>
          <a:prstGeom prst="line">
            <a:avLst/>
          </a:prstGeom>
          <a:ln w="5724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457200" y="380880"/>
            <a:ext cx="1295280" cy="9399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687320" y="1741320"/>
            <a:ext cx="13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Hum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521320" y="1741320"/>
            <a:ext cx="234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nimal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160" y="2285640"/>
            <a:ext cx="3733560" cy="4343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utant Gene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Mutant  or missing Protein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utant Phenotype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diseas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00600" y="2286000"/>
            <a:ext cx="3733920" cy="4343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utant Gene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Mutant  or missing Protein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utant Phenotype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disease mode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52280" y="8380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362320" y="2971800"/>
            <a:ext cx="0" cy="5335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362320" y="4724280"/>
            <a:ext cx="0" cy="5335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629400" y="2971800"/>
            <a:ext cx="0" cy="5335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629400" y="4724280"/>
            <a:ext cx="0" cy="5335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3716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nimal disease model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962520" y="2743200"/>
            <a:ext cx="1143000" cy="0"/>
          </a:xfrm>
          <a:prstGeom prst="line">
            <a:avLst/>
          </a:prstGeom>
          <a:ln w="57240">
            <a:solidFill>
              <a:srgbClr val="ffff00">
                <a:alpha val="41000"/>
              </a:srgbClr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962520" y="4038480"/>
            <a:ext cx="1143000" cy="0"/>
          </a:xfrm>
          <a:prstGeom prst="line">
            <a:avLst/>
          </a:prstGeom>
          <a:ln w="57240">
            <a:solidFill>
              <a:srgbClr val="ffff00">
                <a:alpha val="41000"/>
              </a:srgbClr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962520" y="5943600"/>
            <a:ext cx="1143000" cy="0"/>
          </a:xfrm>
          <a:prstGeom prst="line">
            <a:avLst/>
          </a:prstGeom>
          <a:ln w="5724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457200" y="380880"/>
            <a:ext cx="1295280" cy="9399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1295280" y="837720"/>
            <a:ext cx="73915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Goa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nnotate mutant phenotyp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dentify human disease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trateg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rogre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516400" y="1496880"/>
            <a:ext cx="68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ey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231080" y="1496880"/>
            <a:ext cx="168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lac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604200" y="1496880"/>
            <a:ext cx="182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hypotelor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590920" y="1523880"/>
            <a:ext cx="6019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172200" y="2446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824280" y="14968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256080" y="14968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515680" y="90324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ＭＳ Ｐゴシック"/>
              </a:rPr>
              <a:t>ent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604560" y="903240"/>
            <a:ext cx="95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ＭＳ Ｐゴシック"/>
              </a:rPr>
              <a:t>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230000" y="903240"/>
            <a:ext cx="140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ＭＳ Ｐゴシック"/>
              </a:rPr>
              <a:t>attrib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830400" y="90324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232320" y="90324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438280" y="152388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16400" y="1981080"/>
            <a:ext cx="13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midf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231080" y="1981080"/>
            <a:ext cx="20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develo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604560" y="1981080"/>
            <a:ext cx="187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hypoplas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438280" y="198108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822480" y="1981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56080" y="196992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6400" y="2438280"/>
            <a:ext cx="114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kidn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31080" y="243828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i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604560" y="2438280"/>
            <a:ext cx="222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hypertrophi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436840" y="243828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25720" y="24382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323040" y="2438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257880" y="240336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28600" y="538200"/>
            <a:ext cx="2154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heno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  <a:ea typeface="ＭＳ Ｐゴシック"/>
              </a:rPr>
              <a:t>clinical sig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)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980280" y="1496880"/>
            <a:ext cx="1428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980280" y="1981080"/>
            <a:ext cx="1428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980280" y="2438280"/>
            <a:ext cx="1428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3581280" y="3327480"/>
            <a:ext cx="2438640" cy="238896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3200400" y="5791320"/>
            <a:ext cx="3200400" cy="11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hh</a:t>
            </a:r>
            <a:r>
              <a:rPr b="1" i="1" lang="en-US" sz="2400" spc="-1" strike="noStrike" baseline="30000">
                <a:solidFill>
                  <a:srgbClr val="ffffff"/>
                </a:solidFill>
                <a:latin typeface="Arial"/>
                <a:ea typeface="ＭＳ Ｐゴシック"/>
              </a:rPr>
              <a:t>-/-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holoprosencephal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515680" y="90324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ＭＳ Ｐゴシック"/>
              </a:rPr>
              <a:t>ent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271280" y="903240"/>
            <a:ext cx="95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ＭＳ Ｐゴシック"/>
              </a:rPr>
              <a:t>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896720" y="903240"/>
            <a:ext cx="140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ＭＳ Ｐゴシック"/>
              </a:rPr>
              <a:t>attrib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497120" y="90324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899040" y="90324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438280" y="152388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28600" y="538200"/>
            <a:ext cx="2154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heno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  <a:ea typeface="ＭＳ Ｐゴシック"/>
              </a:rPr>
              <a:t>clinical sig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)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267080" y="533520"/>
            <a:ext cx="0" cy="5943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6440" y="2100240"/>
            <a:ext cx="3719520" cy="378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tomical ont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ll &amp; tissue ontolog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velopmental ont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ene ont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iological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lecular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llular compon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180760" y="3168720"/>
            <a:ext cx="3487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+     PA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phenotype and trait ontolog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9T22:04:12Z</dcterms:created>
  <dc:creator>Erik Segerdell</dc:creator>
  <dc:description/>
  <dc:language>en-US</dc:language>
  <cp:lastModifiedBy>Monte Westerfield</cp:lastModifiedBy>
  <cp:lastPrinted>2005-12-09T19:22:38Z</cp:lastPrinted>
  <dcterms:modified xsi:type="dcterms:W3CDTF">2006-03-03T20:07:56Z</dcterms:modified>
  <cp:revision>123</cp:revision>
  <dc:subject/>
  <dc:title>Ontologies for Gene Expression and Phenotypes</dc:title>
</cp:coreProperties>
</file>